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6.png" ContentType="image/png"/>
  <Override PartName="/ppt/media/image4.pct" ContentType="image/x-pict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9C2-6448-4F10-B2F1-84BBED69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B19-8DEF-4169-8D4F-3CC96D17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617-0848-43A3-B302-1A2C43DD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1F7-A97E-4C16-A6B5-888F3727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78CD-0214-41C3-91B4-ADF4B4A8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3A1D-F999-4BC9-92EF-B0CE508A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3DFD-0D45-404D-BC81-229A3ABB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BC97-F121-43B0-9F09-509C301F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E98A-4A11-4733-8A48-D0ACC855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C40F-82B2-4A9F-ADEA-2E221F66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0F44-8602-402C-864B-64BEC50F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34C-FE5D-41CF-9FE8-1A75FFAC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7CDA-5BBB-4FC7-80A3-D044CCD7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D276-0908-4F94-BDA0-A5058ED9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0F23-C32A-48AB-980E-D143C7D6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4614-ED22-4D43-9621-A81F0593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C3AF-D84F-44E8-9350-A5DB9DC5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E1A-8739-4206-AA4B-E6BD476D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2DC-C2C1-4FB2-850C-69C660C6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4E9-D803-4C98-8F5E-0CC3ADD0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1E0-E09F-48F1-A835-7178293F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030-3EC4-49D4-B2D4-C5F887A7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E50-524D-4B39-8333-44D57299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68F-2E4A-4A39-87BA-772E074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4691-C074-4E39-8BF8-36F50217E01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5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0309-A7E7-43B1-9F71-F16CB4C68AD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eveloping Evaluation and Instruments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429000" y="3809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Regis Graduate School Presentation by Cindy Miglai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Shannon Kee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Tips for constructing True/False questions: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must be entirely true or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 only one thought or idea in each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format spar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48520" y="426708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pecific form of multiple-choi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learners to identify relationship between a entries and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when each listing forms a category of related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 testing ability to discrimin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rge amount of material can be covered and conden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95680" y="5334120"/>
            <a:ext cx="1764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Tips for constructing Matching</a:t>
            </a:r>
            <a:br>
              <a:rPr sz="2400"/>
            </a:b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questions: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he number of items to a max of six or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he length of the items to a word, phrase or brief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ne or two extra items in response column (distra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Instructional Tests &amp; Test Item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most cognitive-domain objectives are evaluated by various types of paper-and-pencil tests grouped into two categories: </a:t>
            </a:r>
            <a:r>
              <a:rPr b="0" lang="en-US" sz="2000" spc="-1" strike="noStrike" u="sng">
                <a:solidFill>
                  <a:srgbClr val="d50c17"/>
                </a:solidFill>
                <a:uFillTx/>
                <a:latin typeface="Arial"/>
              </a:rPr>
              <a:t>objective and constructe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ed Respon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learners to plan answer and express id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ange from one word response to an essay of severa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cognitive objectives can be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ing can b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ormats used including </a:t>
            </a:r>
            <a:r>
              <a:rPr b="0" lang="en-US" sz="2000" spc="-1" strike="noStrike">
                <a:solidFill>
                  <a:srgbClr val="d50c17"/>
                </a:solidFill>
                <a:latin typeface="Arial"/>
              </a:rPr>
              <a:t>short-answer items, essay questions, and problem-solving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What are the differences between constructed-response test questions such as short-answer items, essay questions, and problem-solving questions?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earners to supply a single word, a few words, or a response to complete a statement/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A “Fill in the blank” and “Comple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are specific, scoring i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est a large amount of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recall rather than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ful for testing higher levels of cognitiv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learners to organize and express their thoughts though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” essay: may be restricted to a few paragraphs or a single page and requires a highly focuse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” essay: allows learners  more opportunity to express and defend a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ore difficult to grade, but generally easier to con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nstructors with considerable information about learners understanding of the content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Tips for constructing Essay questions: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questions as specific and focused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students of grading criteria an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r outline an answ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give students a choice of essays- have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respond to the sam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essays “in the blind” without knowing the writers id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blem-Solving Question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suited for evaluating higher-level cognitiv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are easy to constr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ing can be a challenge depending on number and length of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corporate PBL (problem based learning) in classroom and assessments (see page 3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should provide a valid measure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ive tests validity depends on the appropriateness of content  tested and the clarity of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nstructed-response tests, the realibilty of scoring can become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Testing Knowledge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o Consider before setting objectives and designing eval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nstructional objectives dictate the selection of evaluation meth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ype of test should I use to measure comprehension rather than simple memoriz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I asses what students like and don’t like about the instru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is not practical to assess skills in real-life situation, are there any alternative way of accessing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hould portfolios be evalu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How does this relate to me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require procedures for classroom management and grading (as well as expertise in each subject they teac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10280" y="3809880"/>
            <a:ext cx="1676520" cy="258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362320" y="4267080"/>
            <a:ext cx="14097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6600"/>
                </a:solidFill>
                <a:latin typeface="Arial"/>
              </a:rPr>
              <a:t>The Relationship between Evaluation and Instructional Objectives</a:t>
            </a:r>
            <a:endParaRPr b="0" lang="en-US" sz="29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relationship between instructional objectives and test items must ex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ustomary to derive test items directly from the obj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recognized approaches to writing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: What the learner must do to master the specified knowledge is precisley st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gnitive: In which general outcomes and specific behavior outcome are describ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00200" y="304560"/>
            <a:ext cx="7238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verb component of both the behavioral and the cognitive style of objectives indicates the following possible forms of test item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Identify or recogn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hoosing an answer in an objective - type test item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List or lab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ing a word or brief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state or descri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or speaking a short or lengthy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solve or calcul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ing or choosing a solution or numerical ans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operate or constr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ting the quality of performance or product agains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formulate or organ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a plan or choosing an order of items relative to a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predict or jud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ing a description of what is expected to happen or choosing from alternative dec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Instructional Tests &amp; Test Item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gnitive-domain objectives are evaluated by various types of paper-and-pencil tests grouped into two categories: </a:t>
            </a:r>
            <a:r>
              <a:rPr b="0" lang="en-US" sz="2000" spc="-1" strike="noStrike" u="sng">
                <a:solidFill>
                  <a:srgbClr val="d50c17"/>
                </a:solidFill>
                <a:uFillTx/>
                <a:latin typeface="Arial"/>
              </a:rPr>
              <a:t>objective and constructed response</a:t>
            </a:r>
            <a:r>
              <a:rPr b="0" lang="en-US" sz="2000" spc="-1" strike="noStrike" u="sng">
                <a:solidFill>
                  <a:srgbClr val="d54f41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questions for which the student must recognize and select an answer from two or more alternatives or respond to prepared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are free from writing except for marking an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generally composed of </a:t>
            </a:r>
            <a:r>
              <a:rPr b="0" lang="en-US" sz="2400" spc="-1" strike="noStrike">
                <a:solidFill>
                  <a:srgbClr val="d50c17"/>
                </a:solidFill>
                <a:latin typeface="Arial"/>
              </a:rPr>
              <a:t>multiple choice, true/false, and ma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What are the differences between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test questions such as multiple choice, true/false, and matching items?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Cho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ful and versatile type of objectiv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tem (question or an incomplete state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once correct answer and several incorrect answers (distrac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written at all levels of Blooms Tax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ore easily test test higher-order learning, including conceptu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omewhat limiting compared to essay questions on terms of testing synthesis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Tips for constructing Multiple Choice questions: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should be meaningful and relative to instructional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length of alternatives by moving as many words as possible to the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stem so it conveys a complet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answer should not stand out - watch phrasing an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using always and never in distractors, as well as “all of the above” and “none of the abo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rase questions is a positive direction such as: Which of the following is tr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 select the position of a correct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50c17"/>
                </a:solidFill>
                <a:latin typeface="Arial"/>
              </a:rPr>
              <a:t>More on guidelines to constructing better multiple choice questions on pages 304 - 3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/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questions presented as statements that learners judge to be correct or 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content that can be answered by either/or should be presented in thi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fairly narrow  and often limited to factu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asy to write and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recognition rather than 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robability of guessing the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assessments to lower level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8:23:15Z</dcterms:created>
  <dc:creator>Polton Elementary</dc:creator>
  <dc:description/>
  <dc:language>en-US</dc:language>
  <cp:lastModifiedBy>Polton Elementary</cp:lastModifiedBy>
  <dcterms:modified xsi:type="dcterms:W3CDTF">2010-06-23T18:52:28Z</dcterms:modified>
  <cp:revision>46</cp:revision>
  <dc:subject/>
  <dc:title>Developing Evalution and Instruments</dc:title>
</cp:coreProperties>
</file>